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BB8-2D47-41CD-BE84-CFA89418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6FF-C531-4E91-A223-534798D7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D94-D9B3-4EA3-A1D7-0C50AD57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73F-3A3F-46F9-BCF6-3E6840FE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E76-30CF-415E-95BE-72B7810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B15-C52F-4139-9D76-BF15853C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7ABB-F53C-40F5-B23A-3B1A25F0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1919-7F8A-4D20-9AFE-9A1B29B4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8120-5BE1-4406-AB46-BF9ACE8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549C-FB0D-45FE-804A-B300258A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3A0-7064-4411-9168-2F5F931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931-4F0F-4858-9D28-0C3A463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F553-58E3-4B9D-A50C-ECC5E9F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F61A-810F-46BF-8A87-F113F1A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ABF-05F4-4FCE-9DAD-C27162FC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77F-37C0-40B8-86BD-2780452F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1A39-82E0-426C-A6F9-A32437F2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FE9-0AE8-4B90-B1F0-6FEDB5A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670-1DFE-4E6B-B44E-A845F953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200-57E5-40DE-B3DF-273E48A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1C4-397E-4312-AF48-EB372EC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535-E369-429C-8AD1-9072115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580-C7E0-40D3-BA95-E53A532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3DB-AE84-4E8C-BF78-CE1A2DF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16BF-B634-42A8-B387-3BCD6E6AC8A4}" type="slidenum">
              <a:rPr b="0" lang="it-IT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EF29-5FD2-4A2B-B218-839CD690BC15}" type="slidenum">
              <a:rPr b="0" lang="de-DE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64824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371600" y="533520"/>
            <a:ext cx="69343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Estimation du likelihood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pour un arbr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8aff"/>
                </a:solidFill>
                <a:latin typeface="American Typewriter Condensed"/>
              </a:rPr>
              <a:t>phylogénétique fixé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268aff"/>
              </a:solidFill>
              <a:latin typeface="American Typewriter Condensed"/>
              <a:ea typeface="American Typewriter Condensed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809880"/>
            <a:ext cx="327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alkduster"/>
                <a:ea typeface="ヒラギノ角ゴ Pro W3"/>
              </a:rPr>
              <a:t>Étudi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icolo.DeCoi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risa.Espinoza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osip.Mikulic@unil.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90c0e5"/>
                </a:solidFill>
                <a:latin typeface="Chalkduster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5410080"/>
            <a:ext cx="399528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halkduster"/>
                <a:ea typeface="Osaka"/>
              </a:rPr>
              <a:t>Professeu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Osaka"/>
              </a:rPr>
              <a:t>Salamin Nico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halkduster"/>
                <a:ea typeface="Osaka"/>
              </a:rPr>
              <a:t>Assistant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Osaka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Osaka"/>
              </a:rPr>
              <a:t>Maryam Zah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011-F9A4-43AF-8B68-12A727FBCB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763560" y="16002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s inputs de notre fonc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71600" y="2590920"/>
            <a:ext cx="1638000" cy="1828800"/>
            <a:chOff x="1371600" y="2590920"/>
            <a:chExt cx="1638000" cy="1828800"/>
          </a:xfrm>
        </p:grpSpPr>
        <p:sp>
          <p:nvSpPr>
            <p:cNvPr id="128" name=""/>
            <p:cNvSpPr/>
            <p:nvPr/>
          </p:nvSpPr>
          <p:spPr>
            <a:xfrm>
              <a:off x="1371600" y="3048120"/>
              <a:ext cx="162072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57440" y="3116160"/>
              <a:ext cx="11134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&gt; Q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bas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bases  T  C  A  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T -3  1  1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C  1 -3  1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A  1  1 -3 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G  1  1  1 -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960" y="259092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matrice Q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644360" y="2590920"/>
            <a:ext cx="3143520" cy="1752480"/>
            <a:chOff x="4644360" y="2590920"/>
            <a:chExt cx="3143520" cy="1752480"/>
          </a:xfrm>
        </p:grpSpPr>
        <p:sp>
          <p:nvSpPr>
            <p:cNvPr id="132" name=""/>
            <p:cNvSpPr/>
            <p:nvPr/>
          </p:nvSpPr>
          <p:spPr>
            <a:xfrm>
              <a:off x="4800600" y="3124080"/>
              <a:ext cx="2285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8680" y="3228840"/>
              <a:ext cx="14090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&gt; seq[,1:5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[,1] [,2] [,3] [,4] [,5]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1 "t"  "g"  "t"  "a"  "g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2 "t"  "t"  "g"  "g"  "c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3 "g"  "t"  "g"  "t"  "t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4 "t"  "g"  "t"  "a"  "g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S5 "a"  "g"  "g"  "c"  "a"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4360" y="2590920"/>
              <a:ext cx="31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s séquences à analys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18680" y="16002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site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400" spc="-1" strike="noStrike">
                <a:solidFill>
                  <a:srgbClr val="b27800"/>
                </a:solidFill>
                <a:latin typeface="Monaco"/>
              </a:rPr>
              <a:t>function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14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14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5A1-9B5D-4354-A147-62DA858822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37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71640" y="1916280"/>
            <a:ext cx="2133360" cy="136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9FF-6481-4E67-88EF-022C74DDF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5443200" y="2514600"/>
            <a:ext cx="88020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&gt; xsite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ba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eq  T C A 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1 1 0 0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2 0 0 1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3 0 0 1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4 0 0 0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fr-FR" sz="1000" spc="-1" strike="noStrike">
                <a:solidFill>
                  <a:srgbClr val="000000"/>
                </a:solidFill>
                <a:latin typeface="Monaco"/>
              </a:rPr>
              <a:t>S5 1 0 0 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6320" y="2205000"/>
            <a:ext cx="2338560" cy="29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 &lt;- matrix(data=NA,nrow=5,ncol=4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fo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 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1:length(seq[1,])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for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k 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n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1:length(seq[,1])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t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1,0,0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c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1,0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a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0,1,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els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2f01"/>
                </a:solidFill>
                <a:latin typeface="Arial"/>
                <a:ea typeface="Arial"/>
              </a:rPr>
              <a:t>if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seq[k,</a:t>
            </a:r>
            <a:r>
              <a:rPr b="1" lang="fr-FR" sz="1000" spc="-1" strike="noStrike">
                <a:solidFill>
                  <a:srgbClr val="00ff00"/>
                </a:solidFill>
                <a:latin typeface="Arial"/>
                <a:ea typeface="Arial"/>
              </a:rPr>
              <a:t>h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]=="g")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x[k,] &lt;- c(0,0,0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8252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}}}}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E87-8A14-467C-9BAB-57E7BB24C1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45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71640" y="3213000"/>
            <a:ext cx="2133360" cy="208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247-838E-4BB8-9403-09929BBD86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1752480"/>
            <a:ext cx="3352680" cy="3809880"/>
            <a:chOff x="685800" y="1752480"/>
            <a:chExt cx="3352680" cy="3809880"/>
          </a:xfrm>
        </p:grpSpPr>
        <p:sp>
          <p:nvSpPr>
            <p:cNvPr id="150" name=""/>
            <p:cNvSpPr/>
            <p:nvPr/>
          </p:nvSpPr>
          <p:spPr>
            <a:xfrm>
              <a:off x="685800" y="1752480"/>
              <a:ext cx="335268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3120" y="1846080"/>
              <a:ext cx="259488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&lt;-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N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+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}}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&lt;-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0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,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NA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=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for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(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bf25e8"/>
                  </a:solidFill>
                  <a:latin typeface="Monaco"/>
                </a:rPr>
                <a:t>in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: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){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ed5611"/>
                  </a:solidFill>
                  <a:latin typeface="Monaco"/>
                </a:rPr>
                <a:t>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,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+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[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]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}}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 &lt;- 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0" lang="fr-FR" sz="1100" spc="-1" strike="noStrike">
                  <a:solidFill>
                    <a:srgbClr val="e59805"/>
                  </a:solidFill>
                  <a:latin typeface="Monaco"/>
                </a:rPr>
                <a:t>*</a:t>
              </a:r>
              <a:r>
                <a:rPr b="0" lang="fr-FR" sz="11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07680" y="1447920"/>
            <a:ext cx="26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xemple pour le premier noe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82600" y="5013360"/>
            <a:ext cx="2796120" cy="1502280"/>
            <a:chOff x="4782600" y="5013360"/>
            <a:chExt cx="2796120" cy="1502280"/>
          </a:xfrm>
        </p:grpSpPr>
        <p:sp>
          <p:nvSpPr>
            <p:cNvPr id="154" name=""/>
            <p:cNvSpPr/>
            <p:nvPr/>
          </p:nvSpPr>
          <p:spPr>
            <a:xfrm>
              <a:off x="4851360" y="5324400"/>
              <a:ext cx="2727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&gt; 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4 x 4 Matrix of class "dsyMatrix"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bas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bases         T         C         A         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T 0.5869967 0.1376678 0.1376678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C 0.1376678 0.5869967 0.1376678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A 0.1376678 0.1376678 0.5869967 0.137667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    </a:t>
              </a:r>
              <a:r>
                <a:rPr b="0" lang="fr-FR" sz="900" spc="-1" strike="noStrike">
                  <a:solidFill>
                    <a:srgbClr val="000000"/>
                  </a:solidFill>
                  <a:latin typeface="Monaco"/>
                </a:rPr>
                <a:t>G 0.1376678 0.1376678 0.1376678 0.58699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600" y="5013360"/>
              <a:ext cx="185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emple avec t = 0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20080" y="685800"/>
            <a:ext cx="4265280" cy="3599280"/>
            <a:chOff x="4420080" y="685800"/>
            <a:chExt cx="4265280" cy="3599280"/>
          </a:xfrm>
        </p:grpSpPr>
        <p:grpSp>
          <p:nvGrpSpPr>
            <p:cNvPr id="157" name=""/>
            <p:cNvGrpSpPr/>
            <p:nvPr/>
          </p:nvGrpSpPr>
          <p:grpSpPr>
            <a:xfrm>
              <a:off x="5334120" y="762120"/>
              <a:ext cx="2438280" cy="3429000"/>
              <a:chOff x="5334120" y="762120"/>
              <a:chExt cx="2438280" cy="34290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5489640" y="1668240"/>
                <a:ext cx="466560" cy="21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6994080" y="1731600"/>
                <a:ext cx="569880" cy="21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5437080" y="1344600"/>
                <a:ext cx="727200" cy="258840"/>
                <a:chOff x="5437080" y="1344600"/>
                <a:chExt cx="727200" cy="2588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37080" y="1344600"/>
                  <a:ext cx="7272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9260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4848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956200" y="134460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11720" y="762120"/>
                <a:ext cx="727200" cy="258480"/>
                <a:chOff x="6111720" y="762120"/>
                <a:chExt cx="727200" cy="2584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11720" y="762120"/>
                  <a:ext cx="727200" cy="258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67240" y="762120"/>
                  <a:ext cx="108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3120" y="762120"/>
                  <a:ext cx="108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630840" y="762120"/>
                  <a:ext cx="720" cy="25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38920" y="1344600"/>
                <a:ext cx="725400" cy="258840"/>
                <a:chOff x="6838920" y="1344600"/>
                <a:chExt cx="725400" cy="258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38920" y="1344600"/>
                  <a:ext cx="7254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9408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149600" y="134460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356960" y="134460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045200" y="3932280"/>
                <a:ext cx="727200" cy="258840"/>
                <a:chOff x="7045200" y="3932280"/>
                <a:chExt cx="727200" cy="258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045200" y="3932280"/>
                  <a:ext cx="72720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20072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5660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564320" y="393228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334120" y="3932280"/>
                <a:ext cx="726840" cy="258840"/>
                <a:chOff x="5334120" y="3932280"/>
                <a:chExt cx="726840" cy="258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334120" y="3932280"/>
                  <a:ext cx="72684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48964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645520" y="3932280"/>
                  <a:ext cx="108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53240" y="3932280"/>
                  <a:ext cx="720" cy="25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6326640" y="1295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1520" y="243828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54720" y="237960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105880" y="685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d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20080" y="129528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2760" y="12193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22240" y="38862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X[1,j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7200" y="38862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X[2,j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82F-2972-4AFB-A3C8-F30277DD1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990720" y="228600"/>
            <a:ext cx="6247800" cy="6167880"/>
            <a:chOff x="990720" y="228600"/>
            <a:chExt cx="6247800" cy="6167880"/>
          </a:xfrm>
        </p:grpSpPr>
        <p:sp>
          <p:nvSpPr>
            <p:cNvPr id="194" name=""/>
            <p:cNvSpPr/>
            <p:nvPr/>
          </p:nvSpPr>
          <p:spPr>
            <a:xfrm>
              <a:off x="9907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1640" y="30492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971640" y="907920"/>
            <a:ext cx="2438280" cy="152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060640"/>
            <a:ext cx="2438280" cy="15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516640"/>
            <a:ext cx="22860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0CF-0C14-43BB-BF7F-E7DC38F64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1828800"/>
            <a:ext cx="4827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numeric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,]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1334880" y="297180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16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,]))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370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]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og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return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14479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ecteur vide à remplir avec le likelihood pour chaque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819520"/>
            <a:ext cx="23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oop pour calculer le likelihood de chaque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4100400"/>
            <a:ext cx="22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éfinir la valeur qui entre dans le vecteur L et l’output de la fo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8E7-63B0-47DC-A706-184915BB2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29718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erspectiv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1558800" y="376380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914400"/>
            <a:ext cx="8991720" cy="5394600"/>
          </a:xfrm>
          <a:prstGeom prst="rect">
            <a:avLst/>
          </a:prstGeom>
          <a:solidFill>
            <a:srgbClr val="90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ptimisation des paramètres de l’ar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assage du modèle JC69 à des modèles pour nucléotides plus comple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assage au Codon-based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chaîne de Markov décrit les substitutions d’un codon i en 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Ne considère pas les délétions/inse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mutations se passent indépendamment au 3 sites des cod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paramètres de Q: {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}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à 2 ou 3 positions du co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d’une transversion 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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d’une transition 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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 d’une transversion non-synony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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si i et j diffèrent  d’une transition non-synonym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stimation du taux de substitutions  nonsynonyme/ synonyme (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2000" spc="-1" strike="noStrike">
                <a:solidFill>
                  <a:srgbClr val="ffffff"/>
                </a:solidFill>
                <a:latin typeface="Arial"/>
                <a:ea typeface="Arial"/>
              </a:rPr>
              <a:t>= dn/ds) est un important indicateur de la pression sélec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= 1 -&gt; neutral mu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&lt; 1 -&gt; purifyng se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it-CH" sz="1800" spc="-1" strike="noStrike">
                <a:solidFill>
                  <a:srgbClr val="ffffff"/>
                </a:solidFill>
                <a:latin typeface="Arial"/>
                <a:ea typeface="Arial"/>
              </a:rPr>
              <a:t> &gt; 1 -&gt; diversifyng positive se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4643280" y="5357880"/>
            <a:ext cx="4286520" cy="9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F16-D77D-4651-95F8-0B67D5F2948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4572000" cy="990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ibliographi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61272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38080" y="2514600"/>
            <a:ext cx="60660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16765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Yang Z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omputational Molecular Evolu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Oxford university press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365760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asatoshi N./Sudhir K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olecular Evolution and Phylogenetic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Oxford university press,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7432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aradis E.,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nalysis of Phylogenetics and Evolution with 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, Springer, 200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066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480" y="45720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ic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105520"/>
            <a:ext cx="790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Goldman N./Yang Z., "A Codon-based Model of Nucleotide Substitution for Protein-coding DNA Sequences", The University of Chicago, 19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Yang &amp; all,  "Codon-Substitution Models for Heterogeneous Selection Pressure at Amino Acid Sites", Genetics nb 155, p. 431-449,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B95-7B80-45F0-BF8C-7D92E41AE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rci pour l’attention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3000600" y="3352680"/>
            <a:ext cx="30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4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F1C-E933-4863-BF3B-F12CB6C1E2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7696080" cy="50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2060640"/>
            <a:ext cx="754380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Likelihood (L) estimation for a simple tree of nucleotides se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Understand the mathematicals processes under this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0a99"/>
                </a:solidFill>
                <a:latin typeface="Arial"/>
                <a:ea typeface="ヒラギノ角ゴ Pro W3"/>
              </a:rPr>
              <a:t>Programming a general fonction in R to calculate L for a specific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00a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8000" y="55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8840" y="4572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Buts principau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C63-0316-4017-87DE-5B2B329FA4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008840" cy="774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entury Gothic"/>
              </a:rPr>
              <a:t>Intérêt et pertinence du proje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005280" cy="339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3200400"/>
            <a:ext cx="5562720" cy="29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a méthode du ML permet d’optimiser les paramètres  pour trouver le meilleur arbre phylogéné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étecter la pression sélective pour étudier le rôle d’un gène, les gènes importants sont très conserv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4582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tilisation et interprétation des données phylogénét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tude et modélisation de l’évolution des espèces à partir des séquences trouv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1CC-7A64-48B3-AE75-1A750C894F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505320" cy="77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éthodologi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6178680" y="5969160"/>
            <a:ext cx="266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igure 1: représentation des substitution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ultiples à un site (Yang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omputation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olecular evolution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, Oxford universtiy pres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2006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306520" cy="4533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639040" cy="4952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la distance entre 2 séquences s’estime par le nombre de nucléotides différents à chaque si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Problème: sous estimation des substitutions (substitutions multiples,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hidden substitution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Markov chain (fig.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Continuous-time Markov proces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: est un modèle probabilistique qui décrit tous les possibles substitutions qui peuvent se passer à un site on se basant sur la situation actuelle (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markov property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) et on assumant que chaque site évolue indépendam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916-A435-43C3-B36B-FDED95C23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10480" cy="5639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kov chain model JC69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dèle simple pour nucléotides (T,C,A,G), bon modèle pour des petites distanc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={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fr-FR" sz="18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} est la matrice des taux de substitutio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ij est le taux instantané de substitution du nucléotide i au nucléotide 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somme de chaque colonne vaut 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 la même valeur pour chaque nucléotide (ex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1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ij∆t donne la probabilité de substitution dans un petit intervalle de temp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(t)={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fr-FR" sz="1800" spc="-1" strike="noStrike" baseline="-25000">
                <a:solidFill>
                  <a:srgbClr val="ffffff"/>
                </a:solidFill>
                <a:latin typeface="Arial"/>
              </a:rPr>
              <a:t>i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t)} est la matrice des probabilités de transitio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ij(t) est la probabilité qu’un nucléotide i devient j après un temps 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ette matrice considère et calcule tous les possible voies par lesquelles est passé le processus évolutif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ême dimensions de la matrice Q, la somme de chaque colonne vaut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e calcule ainsi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19520" y="5867280"/>
          <a:ext cx="1371600" cy="3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867280"/>
                    <a:ext cx="13716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92360" y="3213000"/>
          <a:ext cx="231120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3213000"/>
                    <a:ext cx="2311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00720" y="3213000"/>
          <a:ext cx="252720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00720" y="3213000"/>
                    <a:ext cx="25272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23C-2B4B-4D24-93A1-2B58191860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81880" cy="3505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kelihood method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thode pour calculer la distance entre 2 séquenc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topologie de l’arbre est fixé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 assume que chaque site évolue indépendamment des autr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the nesting rul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on somme les états du nœud ancestrale après avoir fait la somme pour chaque nœud descendant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tilise une matrice data de dimension s x 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76720" y="3733920"/>
          <a:ext cx="5029200" cy="95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733920"/>
                    <a:ext cx="502920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00400" y="4800600"/>
          <a:ext cx="281952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4800600"/>
                    <a:ext cx="28195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523880" y="3962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un nœu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0960" y="48769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un site de l’arb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080" y="57913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tous les sites de l’arb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0400" y="5486400"/>
          <a:ext cx="3429000" cy="8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486400"/>
                    <a:ext cx="34290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DD1-45BD-4B53-81CF-E922FE340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362320"/>
            <a:ext cx="853416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2189160" cy="717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Résulta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8360" cy="1371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pologie de l’arbre phylogénétiq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The Newick tree forma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est une écriture utilisé pour représenter des arbr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43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tr &lt;- read.tree(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(((S1:0.2,S2:0.2)node1:0.1,S3:0.2)node3:0.1,(S4:0.2,S5:0.2)node2:0.1)node4:0.1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Monaco"/>
                <a:ea typeface="Arial"/>
              </a:rPr>
              <a:t>plot.phylo(tr,root.edge=TRUE,underscore=TRUE,no.margin=TRUE,font=2)nodelabels(c("node4","node3","node1","node2"),frame="c",bg="white"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11280" y="335772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662-41C9-46C3-A844-007FA5E58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219320" y="228600"/>
            <a:ext cx="6247800" cy="6167880"/>
            <a:chOff x="1219320" y="228600"/>
            <a:chExt cx="6247800" cy="6167880"/>
          </a:xfrm>
        </p:grpSpPr>
        <p:sp>
          <p:nvSpPr>
            <p:cNvPr id="120" name=""/>
            <p:cNvSpPr/>
            <p:nvPr/>
          </p:nvSpPr>
          <p:spPr>
            <a:xfrm>
              <a:off x="1219320" y="228600"/>
              <a:ext cx="3504960" cy="616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it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unctio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-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imnames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is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bases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ad.d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/Users/Deketek/Scuola/Mathematique/mc.pam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forma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sequential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as.characte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TRU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umeri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.2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t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c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a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else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{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f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e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==</a:t>
              </a:r>
              <a:r>
                <a:rPr b="1" lang="fr-FR" sz="700" spc="-1" strike="noStrike">
                  <a:solidFill>
                    <a:srgbClr val="9a0700"/>
                  </a:solidFill>
                  <a:latin typeface="Monaco"/>
                </a:rPr>
                <a:t>"g"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k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}}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	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2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240" y="304560"/>
              <a:ext cx="2666880" cy="59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4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5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6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3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&lt;-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exp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Q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t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engt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0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matrix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dat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NA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row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co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=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for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b27800"/>
                  </a:solidFill>
                  <a:latin typeface="Monaco"/>
                </a:rPr>
                <a:t>i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</a:t>
              </a:r>
              <a:r>
                <a:rPr b="1" lang="fr-FR" sz="700" spc="-1" strike="noStrike">
                  <a:solidFill>
                    <a:srgbClr val="114209"/>
                  </a:solidFill>
                  <a:latin typeface="Monaco"/>
                </a:rPr>
                <a:t>1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: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{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2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C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,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j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+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i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}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7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8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[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h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]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og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node4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*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p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 &lt;- 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sum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return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(</a:t>
              </a:r>
              <a:r>
                <a:rPr b="1" lang="fr-FR" sz="700" spc="-1" strike="noStrike">
                  <a:solidFill>
                    <a:srgbClr val="000000"/>
                  </a:solidFill>
                  <a:latin typeface="Monaco"/>
                </a:rPr>
                <a:t>LT</a:t>
              </a: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)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4008e"/>
                  </a:solidFill>
                  <a:latin typeface="Monaco"/>
                </a:rPr>
                <a:t>}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5CA-DC44-41DA-A264-DCAFCAC59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52280"/>
            <a:ext cx="3505320" cy="616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it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unctio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-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imnames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is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bases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,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bases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read.d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/Users/Deketek/Scuola/Mathematique/mc.paml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forma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sequential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as.characte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TRU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umeri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.2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t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c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a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else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{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f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e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==</a:t>
            </a:r>
            <a:r>
              <a:rPr b="1" lang="fr-FR" sz="700" spc="-1" strike="noStrike">
                <a:solidFill>
                  <a:srgbClr val="9a0700"/>
                </a:solidFill>
                <a:latin typeface="Monaco"/>
              </a:rPr>
              <a:t>"g"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k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}}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	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2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152280"/>
            <a:ext cx="2666880" cy="59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5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6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6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3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&lt;-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exp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Q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t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engt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0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matrix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dat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NA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row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co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=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for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b27800"/>
                </a:solidFill>
                <a:latin typeface="Monaco"/>
              </a:rPr>
              <a:t>i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</a:t>
            </a:r>
            <a:r>
              <a:rPr b="1" lang="fr-FR" sz="700" spc="-1" strike="noStrike">
                <a:solidFill>
                  <a:srgbClr val="114209"/>
                </a:solidFill>
                <a:latin typeface="Monaco"/>
              </a:rPr>
              <a:t>1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: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{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2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C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,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j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+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i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}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7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8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[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h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]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og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node4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*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p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 &lt;- 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sum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return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(</a:t>
            </a:r>
            <a:r>
              <a:rPr b="1" lang="fr-FR" sz="700" spc="-1" strike="noStrike">
                <a:solidFill>
                  <a:srgbClr val="000000"/>
                </a:solidFill>
                <a:latin typeface="Monaco"/>
              </a:rPr>
              <a:t>LT</a:t>
            </a: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4008e"/>
                </a:solidFill>
                <a:latin typeface="Monaco"/>
              </a:rPr>
              <a:t>}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280"/>
            <a:ext cx="1676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9F0-3A77-4E20-9FE0-D11CC8DBD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02:23Z</dcterms:created>
  <dc:creator>Nina</dc:creator>
  <dc:description/>
  <dc:language>en-US</dc:language>
  <cp:lastModifiedBy>Biol</cp:lastModifiedBy>
  <dcterms:modified xsi:type="dcterms:W3CDTF">2010-05-26T14:03:06Z</dcterms:modified>
  <cp:revision>43</cp:revision>
  <dc:subject/>
  <dc:title>Presentazione di PowerPoint</dc:title>
</cp:coreProperties>
</file>